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7A06-56F5-47D5-B8FD-3D4F9971F7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FD10-6549-4A3D-85EA-76652488F8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70E-7BB3-4F76-B133-EB40D4FC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EC2-1679-4740-9F28-B1FC3B15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30F-BB09-4D9B-93A3-A1FB63D3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1C9-D8A0-4BBD-9A8C-1DD43DAC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3EB8-A8B5-4663-89FC-EA26E98C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6712-8A83-402A-8EE8-89B314B8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47AD-6BCA-43BF-85A2-32909B54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FA06-E194-4DAC-A3F0-D1EEAD48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4E1B-D186-4DEB-A184-E2B90B76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F062-5A03-4573-BFAA-F4AF2E84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2B95-1DE6-4E03-B41D-25B6EDD5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963-3751-491D-9A33-E02B2DB2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70D2-48F3-499D-B5BD-1F4FD1E8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68F8-B90E-44CE-97A5-64944128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A2B3-935C-4D3A-B8DF-74C144C1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AFE2-1A12-4684-9518-44240C34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551A-ADC1-4099-A1E7-E2C46065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C9D44-9D2F-481A-82A4-54BCB9CE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8268F-F310-438B-A35C-694732F9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87450-DF2D-4889-8BF7-2D74BC87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75257-1932-4535-A1FD-C920BFC6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F0ED7-DA6C-4FF0-B1B1-6435D2B5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BA8-66FE-4B04-8815-1F3BAD9C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6CEA-46B0-45A0-9FE1-7BD9919D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C06B7-1DD4-482C-8A9F-1A7B6261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F344F-9480-494B-A0C4-4B607E73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C8E8-0336-4299-9118-5FDB442A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ED2C8-C79C-419C-92B7-20432341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AC0A6-2AB4-44CF-9964-DF12F8F0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4E482-A336-426A-AD1D-9B2499E8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30982-7E1F-4E59-ADB5-78DAC3A9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4CAA7-728B-4612-8CDC-533B1702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D1F32-54C2-4167-9D70-980ED1E0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5A3-795F-442A-81C6-575AF917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194FF-56EB-4821-B2D7-14E8537D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5F643-2075-405E-8CC8-8965A54C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5390D-F36A-4522-A594-23094D7B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3D26B-2AEB-4487-8975-60C461B0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DF4EA-6918-4554-A529-A0CAE881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F5161-6B23-4A32-9FF4-0C859AA7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DED9-BF42-4FE3-9A2B-C0261F88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C5513-0942-4008-B91F-8E8ABEA1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43FC6-1584-4F4B-9F1D-B0EBCACB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F9AD1-032B-4DA5-AD9B-54B49CE6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B90-0ED7-4DB1-99E5-52EB31CC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CD639-35B6-4317-B990-42A6E398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1320A-E480-466D-A585-DC389F17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B63E3-7E5B-456F-81D9-C17FB03F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46496-8A4F-436C-89B5-3CE15A99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06C3C-24A2-4D74-BF12-85A9C45F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EE3C2-3895-4E2A-9F7C-DCD30504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F1B6D-C522-472B-92EE-34904EBB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ACD15-F565-44BF-A1EF-3E52ADA8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5EC62-FB83-4D99-A2C6-6B79BFF0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166F0-7810-45BD-8639-68C5622F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09E1-29CF-47F4-9DF3-A5E7F521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B05BE-728D-41E9-B9EF-88645185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F3F-FDD2-40D9-86D3-A03DA5B2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85E-A8DE-4033-80B4-5BC44DDD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D0A-2EA3-406A-B4D6-2A21D4C5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86C2-7482-46AF-85A1-3C91E61399E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0E1C-4964-455E-B0A2-4DF0A5C9854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79C8-381A-4A72-9421-F50C20D2A14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8DE8-8EAB-42C8-8745-E5D57246489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AA16-AEA2-4889-AFB3-EF3F4C7BFEF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79995\Desktop\изонить\2547667f45b75ffbd017fdba52a124e9.jpg"/>
          <p:cNvPicPr/>
          <p:nvPr/>
        </p:nvPicPr>
        <p:blipFill>
          <a:blip r:embed="rId2"/>
          <a:stretch/>
        </p:blipFill>
        <p:spPr>
          <a:xfrm>
            <a:off x="250920" y="2852640"/>
            <a:ext cx="55148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ы работ «Аквариу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79995\Desktop\изонить\61c582c91fb1a80d45f6a6bcc41ece5b.jpg.jpg"/>
          <p:cNvPicPr/>
          <p:nvPr/>
        </p:nvPicPr>
        <p:blipFill>
          <a:blip r:embed="rId1"/>
          <a:stretch/>
        </p:blipFill>
        <p:spPr>
          <a:xfrm>
            <a:off x="250920" y="1197000"/>
            <a:ext cx="8893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Аквариум»3-4ч\948b751e6e52f3c074666649826f7db3.png"/>
          <p:cNvPicPr/>
          <p:nvPr/>
        </p:nvPicPr>
        <p:blipFill>
          <a:blip r:embed="rId1"/>
          <a:stretch/>
        </p:blipFill>
        <p:spPr>
          <a:xfrm>
            <a:off x="1403280" y="1077840"/>
            <a:ext cx="69138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07T10:13:07Z</dcterms:modified>
  <cp:revision>32</cp:revision>
  <dc:subject/>
  <dc:title>ТВОРЧЕСКАЯ ДЕЯТЕЛЬНОСТЬ: ЗНАКОМСТВО С ТЕХНИКОЙ ИЗОНИТЬ</dc:title>
</cp:coreProperties>
</file>